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433-6D6E-4F3F-897D-01742CE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E07-4933-45FF-89DA-F8203921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77A-B6CF-4F0B-B78F-61A9F1A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5A4-1093-4B06-941F-311628E7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732-FBFB-4314-8843-FB67217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553-08DC-45C8-9670-01EF0371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38A-EBC6-4123-9A1D-9901F5B1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AE8-DBA7-428D-8DE1-4B508C6F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290-50FF-4EFC-8BCE-26CFED9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174-2063-4DBB-BF84-FCBBC7C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3BB-BB14-4D41-B8F7-39B4597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B13-5418-4DA4-857D-C79B4BE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2F2A-1FDA-4F33-8083-CDC56FBC302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doarda Grego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mponente del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missione Europea Arte e Cultur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B.P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abriella Vagli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mponente del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missione Europea San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B.P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Le attività della B.P.W. a  sostegno delle azioni politiche a favore dell’occupazione femmi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TUTO BPW  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ICO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p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suoi obiettivi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anizzare le donne d’affari e le professioniste in ogni parte del mondo affinché usino le loro attività combinate ed i loro sforzi in modo da ottenere i seguenti obiettivi in linea con le prospettive di genere e con  i diritti umani fondamen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vorare 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Uguali opportunità e status per le donne nella vita economica, civile e politica in tutti i Pa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a rimozione della discrimi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Migliorare la posizione delle donne negli affari, nel commercio e nelle professioni, nonché nella vita economica dei loro Pa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GABY\Fidapa\WEP.jpg"/>
          <p:cNvPicPr/>
          <p:nvPr/>
        </p:nvPicPr>
        <p:blipFill>
          <a:blip r:embed="rId4"/>
          <a:stretch/>
        </p:blipFill>
        <p:spPr>
          <a:xfrm>
            <a:off x="3429000" y="1600200"/>
            <a:ext cx="2244600" cy="309564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7"/>
          <p:cNvSpPr/>
          <p:nvPr/>
        </p:nvSpPr>
        <p:spPr>
          <a:xfrm>
            <a:off x="838080" y="4648320"/>
            <a:ext cx="785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mpowered  Women Leading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ringing  The Voice Of Women 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B.P.W. INTERNATIONAL sta lavorando su tre inizi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Una campagna a livello mondiale sull’ EQUAL PA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ffusione di principi di Empowerment delle Donne               (WE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accordo di cooperazione con l’International Trade Center per migliorare l’ accesso delle donne imprenditrici in tutti i mercati del m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Forum Danube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stria- Italia- Croazia- Bulgaria- Slovacchia-Germania- Ungheria-Moldavia-Romania-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zione di una rete tra donne nelle regioni del Danubio per promuovere il welfare e le politiche di pari opportun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ffre alle imprenditrici l’opportunità di incontrarsi e confrontarsi su tematiche inerenti l’imprenditorialità femmin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GABY\Fidapa\danube net 2011.jpg"/>
          <p:cNvPicPr/>
          <p:nvPr/>
        </p:nvPicPr>
        <p:blipFill>
          <a:blip r:embed="rId4"/>
          <a:stretch/>
        </p:blipFill>
        <p:spPr>
          <a:xfrm>
            <a:off x="1447920" y="2057400"/>
            <a:ext cx="4583160" cy="341964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7"/>
          <p:cNvSpPr/>
          <p:nvPr/>
        </p:nvSpPr>
        <p:spPr>
          <a:xfrm flipV="1" rot="10800000">
            <a:off x="1981080" y="5713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I FORUM DANUBE NE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–    Belgrado , 21 nov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440" bIns="-104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GABY\Fidapa\EPD Logo.jpg"/>
          <p:cNvPicPr/>
          <p:nvPr/>
        </p:nvPicPr>
        <p:blipFill>
          <a:blip r:embed="rId4"/>
          <a:stretch/>
        </p:blipFill>
        <p:spPr>
          <a:xfrm>
            <a:off x="380880" y="1523880"/>
            <a:ext cx="2311560" cy="270036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7"/>
          <p:cNvSpPr/>
          <p:nvPr/>
        </p:nvSpPr>
        <p:spPr>
          <a:xfrm>
            <a:off x="457200" y="4343400"/>
            <a:ext cx="8686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P.W. U.S.A. 1988 : Red Purse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P.W.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2009:        EQUAL PA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9916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 Switzerlan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ontatti con 300 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Franc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ontributo dal Governo – dal 2011 workshop nazionale “Les Dessous de la Parentalitè en Enterpr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German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rogetto con ministero della Famiglia, Anziani, Giovani e Donne – collaborazione con IKEA- Raccolta di f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U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incontri con istituzioni, assemblee pubbliche, dibatt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Austra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UnHappy Hour- Red Purse Gala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New Zealand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ay Equity Challenge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 Kore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C:\Users\GABY\Fidapa\bpw-korea-epd1o.jpg"/>
          <p:cNvPicPr/>
          <p:nvPr/>
        </p:nvPicPr>
        <p:blipFill>
          <a:blip r:embed="rId4"/>
          <a:stretch/>
        </p:blipFill>
        <p:spPr>
          <a:xfrm>
            <a:off x="2133720" y="2819520"/>
            <a:ext cx="4495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P.W. Long Island U.S.A. : Enterprising &amp; Professional Women ( EPW) and Suffolk Country Women’s Service– Equal Pay Day and Women’s Empowerment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C:\Users\GABY\Fidapa\bpw-long-island-equal-pay-day-2011-1.jpg"/>
          <p:cNvPicPr/>
          <p:nvPr/>
        </p:nvPicPr>
        <p:blipFill>
          <a:blip r:embed="rId4"/>
          <a:stretch/>
        </p:blipFill>
        <p:spPr>
          <a:xfrm>
            <a:off x="2209680" y="3201840"/>
            <a:ext cx="56404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Tici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eminario con Università e Commissione Nazionale Pari Opportunità – e-working as an indirect approach to the Equal Salary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GABY\Fidapa\bpw-ticino-equalpayday.jpg"/>
          <p:cNvPicPr/>
          <p:nvPr/>
        </p:nvPicPr>
        <p:blipFill>
          <a:blip r:embed="rId4"/>
          <a:stretch/>
        </p:blipFill>
        <p:spPr>
          <a:xfrm>
            <a:off x="1523880" y="3276720"/>
            <a:ext cx="5853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GABY\Fidapa\Lucretia Mott.jpg"/>
          <p:cNvPicPr/>
          <p:nvPr/>
        </p:nvPicPr>
        <p:blipFill>
          <a:blip r:embed="rId4"/>
          <a:stretch/>
        </p:blipFill>
        <p:spPr>
          <a:xfrm>
            <a:off x="609480" y="1676520"/>
            <a:ext cx="2181240" cy="26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GABY\Fidapa\Belva Lockwood.jpg"/>
          <p:cNvPicPr/>
          <p:nvPr/>
        </p:nvPicPr>
        <p:blipFill>
          <a:blip r:embed="rId5"/>
          <a:stretch/>
        </p:blipFill>
        <p:spPr>
          <a:xfrm>
            <a:off x="6629400" y="3665520"/>
            <a:ext cx="2077920" cy="27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GABY\Fidapa\Susan B.Anthony.jpg"/>
          <p:cNvPicPr/>
          <p:nvPr/>
        </p:nvPicPr>
        <p:blipFill>
          <a:blip r:embed="rId6"/>
          <a:stretch/>
        </p:blipFill>
        <p:spPr>
          <a:xfrm>
            <a:off x="3352680" y="2895480"/>
            <a:ext cx="2482920" cy="208764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9"/>
          <p:cNvSpPr/>
          <p:nvPr/>
        </p:nvSpPr>
        <p:spPr>
          <a:xfrm>
            <a:off x="990720" y="5105520"/>
            <a:ext cx="464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Lucretia Mott 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( 1793-18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Susan B. Anthony 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( 1820-19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ook Antiqua"/>
              </a:rPr>
              <a:t>Belva Lockwood 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( 1830-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Polan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 “Women –  the road to success” con il patrocinio del Ministero delle Pari Opportunità :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“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qual work for equal w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:\Users\GABY\Fidapa\bpw-poland-equal-pay-day-2011.jpg"/>
          <p:cNvPicPr/>
          <p:nvPr/>
        </p:nvPicPr>
        <p:blipFill>
          <a:blip r:embed="rId4"/>
          <a:stretch/>
        </p:blipFill>
        <p:spPr>
          <a:xfrm>
            <a:off x="1523880" y="3124080"/>
            <a:ext cx="5943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.P.W. Eston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“Tilliga ja tillit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GABY\Fidapa\salmone con aneto.jpg"/>
          <p:cNvPicPr/>
          <p:nvPr/>
        </p:nvPicPr>
        <p:blipFill>
          <a:blip r:embed="rId4"/>
          <a:stretch/>
        </p:blipFill>
        <p:spPr>
          <a:xfrm>
            <a:off x="838080" y="2743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GABY\Fidapa\salmone.jpg"/>
          <p:cNvPicPr/>
          <p:nvPr/>
        </p:nvPicPr>
        <p:blipFill>
          <a:blip r:embed="rId5"/>
          <a:stretch/>
        </p:blipFill>
        <p:spPr>
          <a:xfrm>
            <a:off x="4800600" y="2971800"/>
            <a:ext cx="210996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CasellaDiTesto 8"/>
          <p:cNvSpPr/>
          <p:nvPr/>
        </p:nvSpPr>
        <p:spPr>
          <a:xfrm>
            <a:off x="144792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+ 30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.sperando che tra qualche anno il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ariale sia solo un ricordo ed averlo superato una conquis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GABY\Fidapa\Elizabeth Cady Stanton.jpg"/>
          <p:cNvPicPr/>
          <p:nvPr/>
        </p:nvPicPr>
        <p:blipFill>
          <a:blip r:embed="rId4"/>
          <a:stretch/>
        </p:blipFill>
        <p:spPr>
          <a:xfrm>
            <a:off x="3124080" y="1676520"/>
            <a:ext cx="197640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7"/>
          <p:cNvSpPr/>
          <p:nvPr/>
        </p:nvSpPr>
        <p:spPr>
          <a:xfrm>
            <a:off x="990720" y="48769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ook Antiqua"/>
              </a:rPr>
              <a:t>Declaration of  Sentiments   </a:t>
            </a:r>
            <a:r>
              <a:rPr b="1" i="1" lang="it-IT" sz="2400" spc="-1" strike="noStrike">
                <a:solidFill>
                  <a:srgbClr val="000000"/>
                </a:solidFill>
                <a:latin typeface="Book Antiqua"/>
              </a:rPr>
              <a:t>-  </a:t>
            </a: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Seneca Falls, 18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8"/>
          <p:cNvSpPr/>
          <p:nvPr/>
        </p:nvSpPr>
        <p:spPr>
          <a:xfrm>
            <a:off x="3200400" y="457200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Elizabeth Cady Stanton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( 1815-19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GABY\Fidapa\Madesin Phillips.jpg"/>
          <p:cNvPicPr/>
          <p:nvPr/>
        </p:nvPicPr>
        <p:blipFill>
          <a:blip r:embed="rId4"/>
          <a:stretch/>
        </p:blipFill>
        <p:spPr>
          <a:xfrm>
            <a:off x="3124080" y="1676520"/>
            <a:ext cx="2390760" cy="32032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7"/>
          <p:cNvSpPr/>
          <p:nvPr/>
        </p:nvSpPr>
        <p:spPr>
          <a:xfrm>
            <a:off x="1066680" y="4952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ook Antiqua"/>
              </a:rPr>
              <a:t>Lena Madesin Phillips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 ( 1881-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GABY\Fidapa\YWCA 1.jpg"/>
          <p:cNvPicPr/>
          <p:nvPr/>
        </p:nvPicPr>
        <p:blipFill>
          <a:blip r:embed="rId4"/>
          <a:stretch/>
        </p:blipFill>
        <p:spPr>
          <a:xfrm>
            <a:off x="533520" y="1752480"/>
            <a:ext cx="1623960" cy="21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GABY\Fidapa\YWCA 2.jpg"/>
          <p:cNvPicPr/>
          <p:nvPr/>
        </p:nvPicPr>
        <p:blipFill>
          <a:blip r:embed="rId5"/>
          <a:stretch/>
        </p:blipFill>
        <p:spPr>
          <a:xfrm>
            <a:off x="6019920" y="1828800"/>
            <a:ext cx="3327120" cy="23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GABY\Fidapa\BPW 1929.jpg"/>
          <p:cNvPicPr/>
          <p:nvPr/>
        </p:nvPicPr>
        <p:blipFill>
          <a:blip r:embed="rId6"/>
          <a:stretch/>
        </p:blipFill>
        <p:spPr>
          <a:xfrm>
            <a:off x="3124080" y="3505320"/>
            <a:ext cx="2583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440" bIns="-104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:\fidapa usa2.bmp"/>
          <p:cNvPicPr/>
          <p:nvPr/>
        </p:nvPicPr>
        <p:blipFill>
          <a:blip r:embed="rId4"/>
          <a:stretch/>
        </p:blipFill>
        <p:spPr>
          <a:xfrm flipH="1" rot="21260400">
            <a:off x="706320" y="1937520"/>
            <a:ext cx="69818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fidapa.jpg"/>
          <p:cNvPicPr/>
          <p:nvPr/>
        </p:nvPicPr>
        <p:blipFill>
          <a:blip r:embed="rId5"/>
          <a:stretch/>
        </p:blipFill>
        <p:spPr>
          <a:xfrm>
            <a:off x="5943600" y="4038480"/>
            <a:ext cx="2273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GABY\Fidapa\Madesin Phillips.jpg"/>
          <p:cNvPicPr/>
          <p:nvPr/>
        </p:nvPicPr>
        <p:blipFill>
          <a:blip r:embed="rId4"/>
          <a:stretch/>
        </p:blipFill>
        <p:spPr>
          <a:xfrm>
            <a:off x="533520" y="1752480"/>
            <a:ext cx="1847880" cy="247680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7"/>
          <p:cNvSpPr/>
          <p:nvPr/>
        </p:nvSpPr>
        <p:spPr>
          <a:xfrm>
            <a:off x="3581280" y="2057400"/>
            <a:ext cx="47246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 Antiqua"/>
              </a:rPr>
              <a:t>Potenziare il senso di responsabilità  nella donna lavoratrice; elevarne il livello di cultura e preparazione; renderla idonea ad intraprendere qualsiasi carriera, senza discriminazione di s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Dallo Statuto della nuova Associazione Italiana - 19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TUTO F.I.D.A.P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PI E FINAL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icol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FIDAPA è un movimento d’opinione indipendente; non ha scopi di lucro, persegue i suoi obiettivi senza distinzione di etnia, lingua e relig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Federazione ha lo scopo di promuovere, coordinare e sostenere le iniziative delle donne che operano nel campo delle Arti, delle Professioni e degli  Affari, autonomamente o in collaborazione con altri Enti, Associazioni ed altri sogget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raggiungere tale scopo si propone i seguenti obiettiv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alorizzare le competenze e la preparazione delle socie indirizzandole verso attività sociali e culturali che favoriscono il miglioramento della vita, anche lavorativa, delle don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coraggiare le donne a un continuo impegno nonché ad una consapevole partecipazione alla vita sociale, amministrativa e politica, adoperandosi per rimuovere gli ostacoli ancora esiste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sere portavoce delle donne che operano nel campo delle Arti, delle Professioni e degli Affari, presso le Organizzazioni e le Istituzioni Nazionali, europee ed internazional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adoperarsi per rimuovere ogni forma di discriminazione a sfavore delle donne, sia nell’ambito della famiglia che in quello del lavoro, nel pieno rispetto delle norme vigenti in materia di pari opportunit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vorire rapporti amichevoli, reciproca comprensione e proficua collaborazione fra le persone di tutto il mo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Sezioni, seguendo le direttive nazionali e internazionali si impegnano a condividere questi propositi e a diffonderli in coerenza con il principio istitutivo della FIDAPA, quale movimento di opin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13622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ef4dd51625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0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logo fidapa"/>
          <p:cNvPicPr/>
          <p:nvPr/>
        </p:nvPicPr>
        <p:blipFill>
          <a:blip r:embed="rId3"/>
          <a:stretch/>
        </p:blipFill>
        <p:spPr>
          <a:xfrm>
            <a:off x="6858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2"/>
          <p:cNvSpPr/>
          <p:nvPr/>
        </p:nvSpPr>
        <p:spPr>
          <a:xfrm>
            <a:off x="2133720" y="684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PW ITALY - FID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BY</dc:creator>
  <dc:description/>
  <dc:language>en-US</dc:language>
  <cp:lastModifiedBy>GABY</cp:lastModifiedBy>
  <dcterms:modified xsi:type="dcterms:W3CDTF">2012-04-13T12:37:3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